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BA4-CBF1-4E46-93F2-91F5D3DF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7BA-3C70-4648-AC7D-56D57102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946-908F-4169-BFA4-8774868A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6CD-13E3-4C47-93D0-5A4A0F8F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174-8BD9-461E-8D3B-A2452AE4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074-84F9-4716-BF0E-431B6AFD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E51-B781-4249-837A-AB523D10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55E-BF85-4E90-9D22-7DC34D81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C6A-F2E1-4778-A2DC-1B5CCD05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F3F-553E-4541-8DD3-21B97223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F2B-055F-4AC4-BCAA-9F1C841D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209B-8AFD-4A72-AEFB-6B946A0E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D231-03AE-42EE-B5C6-7192B9513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2.40 a woman knocks on the door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 cli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rin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6-year-o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her han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ince yesterday morn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is lim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e encourag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 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alk, but it was not any better. Today, however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d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wa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 use her right leg at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she feels pain 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ry movement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examination we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ction of the hip and kne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and ankle freely movable,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: right groin and t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OM 20 °- 90 ° flexion (contracture), abduction 0 ° - 10 °, ext. rot. 5 °-15 ° (p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lative shortening of the affected 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logical statu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 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synovitis 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worsening of hip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lipped capital femoral epi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Which of these should be treated</a:t>
            </a:r>
            <a:br>
              <a:rPr sz="3600"/>
            </a:b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immediately (at 23h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 of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synovitis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worsening of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ip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lipped capital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oral epi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at 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antibiotic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. tests +  hip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OM exercises, hip ultrasound the next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4920" y="1828800"/>
            <a:ext cx="853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o shall perform hip ultras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are qua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c conditions f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nctur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if it turns out to be indic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d a sampl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crobiological examinatio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nd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rul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piration 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O ANTIBIOTIC UNTIL ASPI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mergency laboratory inverst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ere should we refer the pat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heuma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c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diatric emergency d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. tes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P &lt;5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ucocytes 8.0 with normal differential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R 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sound: medium size effusion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              in the right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596880"/>
            <a:ext cx="73915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9200" y="0"/>
            <a:ext cx="5070600" cy="80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Now what (01:00 AM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RI of the hip + hip puncture in gener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ip puncture in loc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ospital admission and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ctructions of strict resting, Rx for NSAR,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sient synovitis of the hip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– trea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trict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least 1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ould stay in b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ROM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roxen syrup (NSA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tructions in case of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ontrol ex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c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e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-ray if no improvement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 week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then M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done with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vious septic arthritis of the hip (febrile child, CRP 120,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f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hip) at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: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antibiotic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, then antibiotic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, drainage, then a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RI, puncture, drainage, then a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hi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ptic arthr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ways consider the possibility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steomyel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ope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RI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requi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form the correct operational therap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s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oral head 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ost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acaps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the delay of treatment poses a major risk for aseptic necrosis of the femoral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ENT HIP SYNOV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imping afebrile 4-8 chil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hip synovitis should be sus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xclude septic arthritis, Perthes disease, slipped capital femoral epiph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children rec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out consequences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rect th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ld be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nitial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the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ical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 is ess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ight-time sleep, ultrasound and laboratory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: delay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tic arthritis, prescr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ing pero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tibiotics "just in case" (should be given iv or nothing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ENT HIP SYNOV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quick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xclu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ptic arthritis and se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home. Now my parent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le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 st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bed for a week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Ninte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7150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should be done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to the hospital tomorrow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ine the patient and then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ssue analgesic prescription and examine tomorrow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mportant to ask 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ti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does the pai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w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hur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the chi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eep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uring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Chills?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y inf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t mon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ger factors (trau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taneous pain o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nly at mo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s moth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pl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lasts 2 d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thig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hu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ke up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ha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 up to 37°C yesterday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day the temperature is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 not remember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when moving or standing, no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n b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gul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our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ip and knee 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linical examination of lower ex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ferral to laboratory tests of inflammation (the next mo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mediate referral to the hos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examination of the lower extrem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on (measurements, comparison with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im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pation (swelling, effusion or thick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lammatio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sig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ub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l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l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.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motion (outstretched = 0° flex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logical status of the lower extre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ip, we pay particular atten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racture (Thomas t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/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functional difference in the length of the lower extrem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im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ai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g length discrep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ip inspec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less rel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 thick layer of mus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96040" cy="398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5219640" cy="24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29200" y="4038480"/>
            <a:ext cx="38098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6T04:35:27Z</dcterms:modified>
  <cp:revision>1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